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DDC-4F82-44D4-8522-71AAF169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939-5726-4717-8920-FC725889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D90A-3B32-40CB-A32B-B2DAAAE7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AF7-C9CF-4088-A208-F0E67FA1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1B97-D5B1-4901-8347-289CEE74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749-5363-41A6-9A0F-66EA3FF9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7503-40F4-43D3-9E31-09DA67B4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9DB-4046-49B6-ADC2-5FA82033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6AB-1247-4350-8F8E-E3096EA6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2D21-BFCC-447C-82CA-8A6B5CB1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1E6-58DA-4A20-A7A4-9F045203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1B9C-7C21-4AF9-8513-05DE238E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4957-7F64-4444-8831-0EA104271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~PP2623.WAV" TargetMode="External"/><Relationship Id="rId3" Type="http://schemas.microsoft.com/office/2007/relationships/media" Target="file:///tmp/home/.config/libreoffice/4/user/gallery/~PP2623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file:///tmp/home/.config/libreoffice/4/user/gallery/~PP1902.WAV" TargetMode="External"/><Relationship Id="rId3" Type="http://schemas.microsoft.com/office/2007/relationships/media" Target="file:///tmp/home/.config/libreoffice/4/user/gallery/~PP190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file:///tmp/home/.config/libreoffice/4/user/gallery/~PP1056.WAV" TargetMode="External"/><Relationship Id="rId3" Type="http://schemas.microsoft.com/office/2007/relationships/media" Target="file:///tmp/home/.config/libreoffice/4/user/gallery/~PP105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file:///tmp/home/.config/libreoffice/4/user/gallery/~PP131.WAV" TargetMode="External"/><Relationship Id="rId3" Type="http://schemas.microsoft.com/office/2007/relationships/media" Target="file:///tmp/home/.config/libreoffice/4/user/gallery/~PP13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file:///tmp/home/.config/libreoffice/4/user/gallery/~PP3256.WAV" TargetMode="External"/><Relationship Id="rId3" Type="http://schemas.microsoft.com/office/2007/relationships/media" Target="file:///tmp/home/.config/libreoffice/4/user/gallery/~PP325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file:///tmp/home/.config/libreoffice/4/user/gallery/~PP3410.WAV" TargetMode="External"/><Relationship Id="rId3" Type="http://schemas.microsoft.com/office/2007/relationships/media" Target="file:///tmp/home/.config/libreoffice/4/user/gallery/~PP3410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file:///tmp/home/.config/libreoffice/4/user/gallery/~PP2018.WAV" TargetMode="External"/><Relationship Id="rId3" Type="http://schemas.microsoft.com/office/2007/relationships/media" Target="file:///tmp/home/.config/libreoffice/4/user/gallery/~PP201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~PP1761.WAV" TargetMode="External"/><Relationship Id="rId3" Type="http://schemas.microsoft.com/office/2007/relationships/media" Target="file:///tmp/home/.config/libreoffice/4/user/gallery/~PP176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~PP1243.WAV" TargetMode="External"/><Relationship Id="rId3" Type="http://schemas.microsoft.com/office/2007/relationships/media" Target="file:///tmp/home/.config/libreoffice/4/user/gallery/~PP1243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~PP366.WAV" TargetMode="External"/><Relationship Id="rId3" Type="http://schemas.microsoft.com/office/2007/relationships/media" Target="file:///tmp/home/.config/libreoffice/4/user/gallery/~PP36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~PP4022.WAV" TargetMode="External"/><Relationship Id="rId3" Type="http://schemas.microsoft.com/office/2007/relationships/media" Target="file:///tmp/home/.config/libreoffice/4/user/gallery/~PP4022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file:///tmp/home/.config/libreoffice/4/user/gallery/~PP3973.WAV" TargetMode="External"/><Relationship Id="rId3" Type="http://schemas.microsoft.com/office/2007/relationships/media" Target="file:///tmp/home/.config/libreoffice/4/user/gallery/~PP3973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file:///tmp/home/.config/libreoffice/4/user/gallery/~PP156.WAV" TargetMode="External"/><Relationship Id="rId3" Type="http://schemas.microsoft.com/office/2007/relationships/media" Target="file:///tmp/home/.config/libreoffice/4/user/gallery/~PP156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file:///tmp/home/.config/libreoffice/4/user/gallery/~PP3031.WAV" TargetMode="External"/><Relationship Id="rId3" Type="http://schemas.microsoft.com/office/2007/relationships/media" Target="file:///tmp/home/.config/libreoffice/4/user/gallery/~PP303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file:///tmp/home/.config/libreoffice/4/user/gallery/~PP2591.WAV" TargetMode="External"/><Relationship Id="rId3" Type="http://schemas.microsoft.com/office/2007/relationships/media" Target="file:///tmp/home/.config/libreoffice/4/user/gallery/~PP2591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Italien Fe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ie (Kayleigh) Ruffo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dem Weingarten geseh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715000" cy="3800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die Brunnen geseh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338880" cy="421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4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viele Hunde geseh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195880" cy="3911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7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meine Familie besuc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043600" cy="3778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0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alien hat mir sehr gut gefall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3714480" cy="3714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3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sollst Italien besuch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4886280" cy="3281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6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Itali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191120" cy="5234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ohne in eine Private Hau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569960"/>
            <a:ext cx="7238880" cy="4351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Fussball gespiel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5862600" cy="4024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in Macerata gewohn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119560" cy="3835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bin an Mediterranean geschomm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172200" cy="4624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eine Vespa gefah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043600" cy="3778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Pizza gegess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267440" cy="4267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Musik gespiel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705560" cy="4021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10:38Z</dcterms:created>
  <dc:creator>CUSD220</dc:creator>
  <dc:description/>
  <dc:language>en-US</dc:language>
  <cp:lastModifiedBy>CUSD220</cp:lastModifiedBy>
  <dcterms:modified xsi:type="dcterms:W3CDTF">2011-11-15T18:29:52Z</dcterms:modified>
  <cp:revision>3</cp:revision>
  <dc:subject/>
  <dc:title>Meine Italien Ferien</dc:title>
</cp:coreProperties>
</file>